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2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A500-9550-444F-8ED0-47D8EE847F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CB26-5238-4458-8250-B2FA7FFEAF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0917-5135-497D-A997-73576BB323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5D24-59B6-43CA-8E6B-3C730DA92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9995-AC80-4115-BBCB-0D16C8E477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DAE4-0E26-417A-ADD9-33EDF9F5A3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1DBB-6B56-4461-852F-FC06731E0A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CEC9-267C-41F9-817F-27E3CFB396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1089-88D8-4AA1-A3A5-327FA71DB5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B5C5-E175-4803-AEDA-F24F2DE0A2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401B-FDAD-4D83-8545-6351C4050E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2AB8-101F-4B8D-86E4-0DE4CE866A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7603-08E8-40C0-A591-D04A2939AB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4A5-D7F2-47D7-86D9-F00EC929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18F-A6FB-4994-8FAF-2C7A8F22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0E2-9EB0-4AD4-8693-5BB4A5F6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BA1-817F-4F88-9496-54EC0381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5756-1797-46AE-B597-ECDE28DD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263A-4B82-4738-B70C-4597DAC0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1D2A-4F66-4D90-ADFF-71D9042B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B3F3-9D43-4C29-AC96-25D95763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2080-72F3-42D1-B2F1-33AC5D49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F402-CE71-4B6B-B6C1-C3330BB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64F9-26B9-481D-96C4-FB606EF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DCE-8703-4358-98A5-FA481FD2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41F3-CBAC-464A-A391-790047B8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8C91-36FE-435B-A56A-2578D37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7D7C-896F-44A5-80EF-75EC048E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B194-135A-4876-BC23-436D2D96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745C-1B5B-49FC-95AB-B2991405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5941-72A5-4BD8-972B-A980BEEB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CCFB-545D-4CD0-8D9F-6EAAAC9F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A075-02C6-4FDC-9CCA-904655C7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A05B-A105-41EB-8184-5EA55BA0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A8B2-D5BC-4C9C-962D-F9E07104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13A-CAF8-4374-A980-6B793085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A6DD-BAED-4416-A5BC-E98919CD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0267-41A5-408A-9E34-5A6888E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3C83-370C-4BA4-ADF7-E05F0474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FA03-BEA8-41CE-B035-55467F0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3A543-0435-4C29-B4D4-3C407E61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F3E2-5C04-4AE2-B4E3-7C0127EB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44C0-BEE1-4A38-969B-812FD307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2072-C7C3-4924-B09C-FE80C382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598C3-39D5-4D53-AF43-E891DBE8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BF98-B0A3-4DC0-807B-30071B5A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87F-326C-45EC-9732-E49A3E5C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4E1C-1855-4309-96E2-35DF6289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A0B0-F3DA-457E-BCFF-6DC9B206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2E510-259A-42FB-B3B5-78A3088B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EDDD-625F-48C6-ADCD-B169CCC9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9620E-4DD7-4248-86E8-3994D47D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E3A13-6CD3-48DA-A9EB-8647A50B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0843B-1269-4183-923E-E29C64C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3305-E546-4ADA-A544-BD8BA80F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ECD1-3D9C-4AFB-B6B2-664DD939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105FD-BFA0-4AB8-A9C0-8F8E339B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2DC-E729-47E2-8DB8-2ED1BF07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83F8-87FA-43C9-9C91-051B93F2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3518C-1272-44BA-B84B-5DE87D80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5FB2A-35D7-42CA-93AE-A7119533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BD4B-2DA3-467D-B0C9-9B17125A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53AB3-99DD-4F0F-BB65-4330718C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7F4CA-D1E8-4E18-94B7-30C299A0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B1229-6367-4F51-9C47-21A7C17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A15A-F2ED-4A88-BC85-F00AC69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5983-C3BC-4A5F-955C-533370C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82DD-25D1-457A-B7B0-D98CA96A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98B-7CC4-453C-B27D-F78D2A45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EC27-237E-42E3-8710-3551FC61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7A825-68D9-43A3-8D42-9F1B0274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AB507-C617-48A3-8AD8-4CDD9117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BF9F-719F-481B-BCB7-F14A5504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28DB-FB7F-4EAB-9714-8700E287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2A11-27F6-4221-B3A6-7D0BF728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3BC1B-2573-4F15-8DD4-B85FB18D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99767-6449-49F5-B7AA-0A91D7A1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45BC0-7B68-45E9-8579-0115169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CF46B-8D63-46C6-AFA5-A1058F4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8FC-6B8B-423D-9B3C-219C218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18433-BC23-4689-9BB1-49952951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65334-97AD-4EA5-A62A-22674E57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314EC-D5D4-4A6B-8025-946F20ED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64F-6DAA-4072-9C4C-956422E5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F63-F8D8-4FD7-8328-D4D6200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63FE-EA03-4C8B-92A3-38E1A6A2B3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B633-E732-44BA-80DA-D62420BBFE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CD85-584C-4D5D-85ED-3374082CDC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88F8-1406-4361-B7F3-6E14AFC8A6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9A23-D74A-45A8-BE1B-C7E6DA8489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6276-24E2-4B0D-8AEC-0B34207A53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244440" y="1047600"/>
            <a:ext cx="8508960" cy="1487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826920" y="364464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Соблюдая эти простые правила, можно создать презентацию, за которую не придется краснеть…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Прямоугольник 4" descr=""/>
          <p:cNvPicPr/>
          <p:nvPr/>
        </p:nvPicPr>
        <p:blipFill>
          <a:blip r:embed="rId1"/>
          <a:stretch/>
        </p:blipFill>
        <p:spPr>
          <a:xfrm>
            <a:off x="5334120" y="1401840"/>
            <a:ext cx="2919240" cy="67140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5" descr=""/>
          <p:cNvPicPr/>
          <p:nvPr/>
        </p:nvPicPr>
        <p:blipFill>
          <a:blip r:embed="rId2"/>
          <a:stretch/>
        </p:blipFill>
        <p:spPr>
          <a:xfrm>
            <a:off x="695160" y="1401840"/>
            <a:ext cx="3407040" cy="6714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6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Единый стиль оформления (заголовки, переходы слайдов, шрифт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0" name="Picture 1" descr=""/>
          <p:cNvPicPr/>
          <p:nvPr/>
        </p:nvPicPr>
        <p:blipFill>
          <a:blip r:embed="rId3"/>
          <a:stretch/>
        </p:blipFill>
        <p:spPr>
          <a:xfrm>
            <a:off x="4572000" y="2060640"/>
            <a:ext cx="2303640" cy="172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1" name="Picture 2" descr=""/>
          <p:cNvPicPr/>
          <p:nvPr/>
        </p:nvPicPr>
        <p:blipFill>
          <a:blip r:embed="rId4"/>
          <a:stretch/>
        </p:blipFill>
        <p:spPr>
          <a:xfrm>
            <a:off x="6516720" y="3213000"/>
            <a:ext cx="2473200" cy="18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2" name="Picture 3" descr=""/>
          <p:cNvPicPr/>
          <p:nvPr/>
        </p:nvPicPr>
        <p:blipFill>
          <a:blip r:embed="rId5"/>
          <a:stretch/>
        </p:blipFill>
        <p:spPr>
          <a:xfrm>
            <a:off x="4572000" y="4829040"/>
            <a:ext cx="244800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3" name="Picture 4" descr=""/>
          <p:cNvPicPr/>
          <p:nvPr/>
        </p:nvPicPr>
        <p:blipFill>
          <a:blip r:embed="rId6"/>
          <a:stretch/>
        </p:blipFill>
        <p:spPr>
          <a:xfrm>
            <a:off x="108000" y="1989000"/>
            <a:ext cx="2376360" cy="180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4" name="Picture 5" descr=""/>
          <p:cNvPicPr/>
          <p:nvPr/>
        </p:nvPicPr>
        <p:blipFill>
          <a:blip r:embed="rId7"/>
          <a:stretch/>
        </p:blipFill>
        <p:spPr>
          <a:xfrm>
            <a:off x="2195640" y="3213000"/>
            <a:ext cx="2376360" cy="17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5" name="Picture 6" descr=""/>
          <p:cNvPicPr/>
          <p:nvPr/>
        </p:nvPicPr>
        <p:blipFill>
          <a:blip r:embed="rId8"/>
          <a:stretch/>
        </p:blipFill>
        <p:spPr>
          <a:xfrm>
            <a:off x="179280" y="4843440"/>
            <a:ext cx="2448000" cy="182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Прямоугольник 13" descr=""/>
          <p:cNvPicPr/>
          <p:nvPr/>
        </p:nvPicPr>
        <p:blipFill>
          <a:blip r:embed="rId9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Прямоугольник 4" descr=""/>
          <p:cNvPicPr/>
          <p:nvPr/>
        </p:nvPicPr>
        <p:blipFill>
          <a:blip r:embed="rId1"/>
          <a:stretch/>
        </p:blipFill>
        <p:spPr>
          <a:xfrm>
            <a:off x="5430960" y="2554200"/>
            <a:ext cx="2719440" cy="66996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5" descr=""/>
          <p:cNvPicPr/>
          <p:nvPr/>
        </p:nvPicPr>
        <p:blipFill>
          <a:blip r:embed="rId2"/>
          <a:stretch/>
        </p:blipFill>
        <p:spPr>
          <a:xfrm>
            <a:off x="652320" y="2554200"/>
            <a:ext cx="3200400" cy="6699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6"/>
          <p:cNvSpPr/>
          <p:nvPr/>
        </p:nvSpPr>
        <p:spPr>
          <a:xfrm>
            <a:off x="250920" y="0"/>
            <a:ext cx="8642160" cy="26535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Шрифт текста не должен быть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курсиво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сположение информации: горизонтальное, важная – по центр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итаемый текст (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rdana, Tahoma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), не более 15 строк, для заголовков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in-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24 размер шрифта, а для текста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in-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1" name="Picture 3" descr=""/>
          <p:cNvPicPr/>
          <p:nvPr/>
        </p:nvPicPr>
        <p:blipFill>
          <a:blip r:embed="rId4"/>
          <a:stretch/>
        </p:blipFill>
        <p:spPr>
          <a:xfrm>
            <a:off x="395280" y="3429000"/>
            <a:ext cx="374508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2" name="Прямоугольник 15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Прямоугольник 4" descr=""/>
          <p:cNvPicPr/>
          <p:nvPr/>
        </p:nvPicPr>
        <p:blipFill>
          <a:blip r:embed="rId1"/>
          <a:stretch/>
        </p:blipFill>
        <p:spPr>
          <a:xfrm>
            <a:off x="5430960" y="1255680"/>
            <a:ext cx="2719440" cy="67644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5" descr=""/>
          <p:cNvPicPr/>
          <p:nvPr/>
        </p:nvPicPr>
        <p:blipFill>
          <a:blip r:embed="rId2"/>
          <a:stretch/>
        </p:blipFill>
        <p:spPr>
          <a:xfrm>
            <a:off x="652320" y="1255680"/>
            <a:ext cx="3200400" cy="67644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6"/>
          <p:cNvSpPr/>
          <p:nvPr/>
        </p:nvSpPr>
        <p:spPr>
          <a:xfrm>
            <a:off x="250920" y="333360"/>
            <a:ext cx="8642160" cy="5205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е более трех цветов (5 оттенков) на слайд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403200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7" name="Picture 2" descr=""/>
          <p:cNvPicPr/>
          <p:nvPr/>
        </p:nvPicPr>
        <p:blipFill>
          <a:blip r:embed="rId4"/>
          <a:stretch/>
        </p:blipFill>
        <p:spPr>
          <a:xfrm>
            <a:off x="371520" y="2421000"/>
            <a:ext cx="393696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8" name="Прямоугольник 10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78920" y="1052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очка в заголовках не ставится!!!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чественные графические объекты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чественные видео- и аудио фрагмен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равданная анимац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более трех цветов (5 оттенков) на слайде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диный стиль оформления (заголовки, переходы слайдов, шрифт)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вет фона и текста должен быть контрастным (лучше «черное» на «белом»)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Rectangle 2" descr=""/>
          <p:cNvPicPr/>
          <p:nvPr/>
        </p:nvPicPr>
        <p:blipFill>
          <a:blip r:embed="rId6"/>
          <a:stretch/>
        </p:blipFill>
        <p:spPr>
          <a:xfrm>
            <a:off x="19080" y="115920"/>
            <a:ext cx="7942320" cy="7794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7" descr=""/>
          <p:cNvPicPr/>
          <p:nvPr/>
        </p:nvPicPr>
        <p:blipFill>
          <a:blip r:embed="rId7"/>
          <a:stretch/>
        </p:blipFill>
        <p:spPr>
          <a:xfrm>
            <a:off x="7845480" y="6400800"/>
            <a:ext cx="1427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Шрифт текста не должен быть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курсивом </a:t>
            </a:r>
            <a:r>
              <a:rPr b="0" i="1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Читаемый текст (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erdana, Tahoma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), не более 15 строк, для заголовков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in-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24 размер шрифта, а для текста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in-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8 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Расположение информации: горизонтальное, важная – по центру 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дписи графических объектов: диаграмм, рисунков, фотографий, портретов и т.д. 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Рисунки с отличительным фоном лучше делать в рамку 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добная навигация (гиперссылки, управляющие кнопки) 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9" name="Rectangle 2" descr=""/>
          <p:cNvPicPr/>
          <p:nvPr/>
        </p:nvPicPr>
        <p:blipFill>
          <a:blip r:embed="rId5"/>
          <a:stretch/>
        </p:blipFill>
        <p:spPr>
          <a:xfrm>
            <a:off x="19080" y="115920"/>
            <a:ext cx="7942320" cy="77940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10" descr=""/>
          <p:cNvPicPr/>
          <p:nvPr/>
        </p:nvPicPr>
        <p:blipFill>
          <a:blip r:embed="rId6"/>
          <a:stretch/>
        </p:blipFill>
        <p:spPr>
          <a:xfrm>
            <a:off x="7912080" y="6400800"/>
            <a:ext cx="13413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830760" cy="28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830760" cy="287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3" name="Прямоугольник 4" descr=""/>
          <p:cNvPicPr/>
          <p:nvPr/>
        </p:nvPicPr>
        <p:blipFill>
          <a:blip r:embed="rId3"/>
          <a:stretch/>
        </p:blipFill>
        <p:spPr>
          <a:xfrm>
            <a:off x="5456160" y="1689120"/>
            <a:ext cx="2718000" cy="6760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5" descr=""/>
          <p:cNvPicPr/>
          <p:nvPr/>
        </p:nvPicPr>
        <p:blipFill>
          <a:blip r:embed="rId4"/>
          <a:stretch/>
        </p:blipFill>
        <p:spPr>
          <a:xfrm>
            <a:off x="774720" y="1682640"/>
            <a:ext cx="3200400" cy="66996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367560" y="333360"/>
            <a:ext cx="8408880" cy="703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Точка в заголовках не ставится!!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6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13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Прямоугольник 4" descr=""/>
          <p:cNvPicPr/>
          <p:nvPr/>
        </p:nvPicPr>
        <p:blipFill>
          <a:blip r:embed="rId1"/>
          <a:stretch/>
        </p:blipFill>
        <p:spPr>
          <a:xfrm>
            <a:off x="5456160" y="1689120"/>
            <a:ext cx="2718000" cy="67608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5" descr=""/>
          <p:cNvPicPr/>
          <p:nvPr/>
        </p:nvPicPr>
        <p:blipFill>
          <a:blip r:embed="rId2"/>
          <a:stretch/>
        </p:blipFill>
        <p:spPr>
          <a:xfrm>
            <a:off x="774720" y="1689120"/>
            <a:ext cx="3200400" cy="6760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6"/>
          <p:cNvSpPr/>
          <p:nvPr/>
        </p:nvSpPr>
        <p:spPr>
          <a:xfrm>
            <a:off x="-138960" y="333360"/>
            <a:ext cx="9422280" cy="703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ачественные графические объекты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0" name="Picture 1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816360" cy="28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1" name="Picture 2" descr=""/>
          <p:cNvPicPr/>
          <p:nvPr/>
        </p:nvPicPr>
        <p:blipFill>
          <a:blip r:embed="rId4"/>
          <a:stretch/>
        </p:blipFill>
        <p:spPr>
          <a:xfrm>
            <a:off x="4932360" y="2708280"/>
            <a:ext cx="3828960" cy="28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2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4" descr=""/>
          <p:cNvPicPr/>
          <p:nvPr/>
        </p:nvPicPr>
        <p:blipFill>
          <a:blip r:embed="rId1"/>
          <a:stretch/>
        </p:blipFill>
        <p:spPr>
          <a:xfrm>
            <a:off x="5357880" y="1689120"/>
            <a:ext cx="2921040" cy="67608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5" descr=""/>
          <p:cNvPicPr/>
          <p:nvPr/>
        </p:nvPicPr>
        <p:blipFill>
          <a:blip r:embed="rId2"/>
          <a:stretch/>
        </p:blipFill>
        <p:spPr>
          <a:xfrm>
            <a:off x="669960" y="1689120"/>
            <a:ext cx="3408480" cy="67608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6"/>
          <p:cNvSpPr/>
          <p:nvPr/>
        </p:nvSpPr>
        <p:spPr>
          <a:xfrm>
            <a:off x="216000" y="333360"/>
            <a:ext cx="8712000" cy="13129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Рисунки с отличительным фоном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лучше делать в рамку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829320" cy="28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7" name="Picture 2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3816360" cy="284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8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4" descr=""/>
          <p:cNvPicPr/>
          <p:nvPr/>
        </p:nvPicPr>
        <p:blipFill>
          <a:blip r:embed="rId1"/>
          <a:stretch/>
        </p:blipFill>
        <p:spPr>
          <a:xfrm>
            <a:off x="5456160" y="1689120"/>
            <a:ext cx="2718000" cy="67608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5" descr=""/>
          <p:cNvPicPr/>
          <p:nvPr/>
        </p:nvPicPr>
        <p:blipFill>
          <a:blip r:embed="rId2"/>
          <a:stretch/>
        </p:blipFill>
        <p:spPr>
          <a:xfrm>
            <a:off x="774720" y="1689120"/>
            <a:ext cx="3200400" cy="6760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6"/>
          <p:cNvSpPr/>
          <p:nvPr/>
        </p:nvSpPr>
        <p:spPr>
          <a:xfrm>
            <a:off x="250920" y="333360"/>
            <a:ext cx="8642160" cy="19224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дписи графических объектов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диаграмм, рисунков, фотографий…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2" name="Picture 1" descr=""/>
          <p:cNvPicPr/>
          <p:nvPr/>
        </p:nvPicPr>
        <p:blipFill>
          <a:blip r:embed="rId3"/>
          <a:stretch/>
        </p:blipFill>
        <p:spPr>
          <a:xfrm>
            <a:off x="4932360" y="2781360"/>
            <a:ext cx="382896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3" name="Picture 2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3887640" cy="29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4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4" descr=""/>
          <p:cNvPicPr/>
          <p:nvPr/>
        </p:nvPicPr>
        <p:blipFill>
          <a:blip r:embed="rId1"/>
          <a:stretch/>
        </p:blipFill>
        <p:spPr>
          <a:xfrm>
            <a:off x="5357880" y="1689120"/>
            <a:ext cx="2921040" cy="67608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5" descr=""/>
          <p:cNvPicPr/>
          <p:nvPr/>
        </p:nvPicPr>
        <p:blipFill>
          <a:blip r:embed="rId2"/>
          <a:stretch/>
        </p:blipFill>
        <p:spPr>
          <a:xfrm>
            <a:off x="669960" y="1689120"/>
            <a:ext cx="3408480" cy="6760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6"/>
          <p:cNvSpPr/>
          <p:nvPr/>
        </p:nvSpPr>
        <p:spPr>
          <a:xfrm>
            <a:off x="250920" y="333360"/>
            <a:ext cx="8642160" cy="19224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Удобная навигация (гиперссылки, управляющие кнопки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87640" cy="29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9" name="Picture 3" descr=""/>
          <p:cNvPicPr/>
          <p:nvPr/>
        </p:nvPicPr>
        <p:blipFill>
          <a:blip r:embed="rId4"/>
          <a:stretch/>
        </p:blipFill>
        <p:spPr>
          <a:xfrm>
            <a:off x="4788000" y="2924280"/>
            <a:ext cx="3862440" cy="28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0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4" descr=""/>
          <p:cNvPicPr/>
          <p:nvPr/>
        </p:nvPicPr>
        <p:blipFill>
          <a:blip r:embed="rId1"/>
          <a:stretch/>
        </p:blipFill>
        <p:spPr>
          <a:xfrm>
            <a:off x="5357880" y="1689120"/>
            <a:ext cx="2921040" cy="67608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5" descr=""/>
          <p:cNvPicPr/>
          <p:nvPr/>
        </p:nvPicPr>
        <p:blipFill>
          <a:blip r:embed="rId2"/>
          <a:stretch/>
        </p:blipFill>
        <p:spPr>
          <a:xfrm>
            <a:off x="669960" y="1689120"/>
            <a:ext cx="3408480" cy="67608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6"/>
          <p:cNvSpPr/>
          <p:nvPr/>
        </p:nvSpPr>
        <p:spPr>
          <a:xfrm>
            <a:off x="250920" y="333360"/>
            <a:ext cx="8642160" cy="1556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Цвет фона и текста должен быть контрастным (лучше «черное» на «белом»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8440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5" name="Picture 3" descr=""/>
          <p:cNvPicPr/>
          <p:nvPr/>
        </p:nvPicPr>
        <p:blipFill>
          <a:blip r:embed="rId4"/>
          <a:stretch/>
        </p:blipFill>
        <p:spPr>
          <a:xfrm>
            <a:off x="4788000" y="2924280"/>
            <a:ext cx="3916440" cy="28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6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7:03:35Z</dcterms:created>
  <dc:creator>DNA7 X64</dc:creator>
  <dc:description/>
  <dc:language>en-US</dc:language>
  <cp:lastModifiedBy>DNA7 X64</cp:lastModifiedBy>
  <dcterms:modified xsi:type="dcterms:W3CDTF">2011-04-30T17:14:08Z</dcterms:modified>
  <cp:revision>1</cp:revision>
  <dc:subject/>
  <dc:title>Качественная презентация</dc:title>
</cp:coreProperties>
</file>